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jpeg" ContentType="image/jpeg"/>
  <Override PartName="/ppt/media/image27.wmf" ContentType="image/x-wmf"/>
  <Override PartName="/ppt/media/image26.jpeg" ContentType="image/jpeg"/>
  <Override PartName="/ppt/media/image24.wmf" ContentType="image/x-wmf"/>
  <Override PartName="/ppt/media/image21.png" ContentType="image/png"/>
  <Override PartName="/ppt/media/image23.png" ContentType="image/png"/>
  <Override PartName="/ppt/media/image6.wmf" ContentType="image/x-wmf"/>
  <Override PartName="/ppt/media/image19.jpeg" ContentType="image/jpeg"/>
  <Override PartName="/ppt/media/image29.wmf" ContentType="image/x-wmf"/>
  <Override PartName="/ppt/media/image11.wmf" ContentType="image/x-wmf"/>
  <Override PartName="/ppt/media/image18.png" ContentType="image/png"/>
  <Override PartName="/ppt/media/image31.wmf" ContentType="image/x-wmf"/>
  <Override PartName="/ppt/media/image7.jpeg" ContentType="image/jpeg"/>
  <Override PartName="/ppt/media/image25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wmf" ContentType="image/x-wmf"/>
  <Override PartName="/ppt/media/image30.wmf" ContentType="image/x-wmf"/>
  <Override PartName="/ppt/media/image33.png" ContentType="image/png"/>
  <Override PartName="/ppt/media/image34.png" ContentType="image/png"/>
  <Override PartName="/ppt/media/image15.png" ContentType="image/png"/>
  <Override PartName="/ppt/media/image36.jpeg" ContentType="image/jpeg"/>
  <Override PartName="/ppt/media/image2.jpeg" ContentType="image/jpeg"/>
  <Override PartName="/ppt/media/image35.png" ContentType="image/png"/>
  <Override PartName="/ppt/media/image5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3.png" ContentType="image/png"/>
  <Override PartName="/ppt/media/image20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925B-7DEE-4392-99A6-54F874CCE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2093-3BBF-4CD3-BA15-58442F27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4BE2-535E-4039-A26D-61289A19A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340F-D183-44EE-83DE-FE1EC1693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E24C-79E3-43D0-A79B-3D5829A83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4988-C316-4F3C-9963-B915197A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26AA-B5DA-4889-864F-FEE8560D3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8242-BC39-4288-83C6-C08A120E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1C04-1FDE-4CAE-8A46-42B732FDF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9742-F311-4E4B-8670-1FD3E889A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ED9E-1974-41E9-A6EA-7DCC1B9D3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9296-B419-41ED-AD44-61AC57D19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89D6-3AF5-454F-AE1E-997FA1CBD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86BB-053C-4EF2-AA62-C5B6BD979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F432-D0D0-4DD6-A526-7BD7980E9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A604-0D96-48BA-ABF5-A11A8927F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4BB7-8F2A-41E8-80B0-767839320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CEACE-6DCA-4525-A46F-02FD51B3C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6116-19C1-49B6-95DA-8D3D0EF6C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4B72-26C6-4B13-AFA9-F92B20CD5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B0A27-2D4A-4D71-A858-BD15C98C3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3718-7F70-40FE-A124-F2E4269EC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40F4-9FF5-4783-8D72-B79094ADC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3E3F-E443-41EA-8AA6-AF2F9D181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2536-3827-4984-B276-9F01BD5355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E0BC-F834-49C3-81A6-8BFD1B02CB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5FFA-FFCD-4799-8FE7-3E9529F2CD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300B-11C2-4C99-B0EB-0AA2BCF6DD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75A-0D96-449D-9508-C323C03097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8DA5-533B-459B-A087-148E989DFC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795B-FE3D-4947-9EDD-6B055A723F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8A9D5-E44E-4A50-8471-EFB1EE9D3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9C64-CC1E-495D-912B-5E4D233587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B643-C4D6-4A43-9D48-14DB1CC087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582-E346-4DE6-B767-1EBCC07D4BA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0127-DB2B-4740-8159-00047B266C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66D6-FCF7-46A4-AA8C-E10561B845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8C0C8-9BFC-415C-AA82-465ED963B9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5406B-6BE9-4273-BCDA-63EA62D592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6C1F-92C0-4039-B84A-9874AA1F7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7E29E-20F6-4700-BCE7-DBFBB41AC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3202-6A37-4AA8-8D5C-DB504A5E3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A8DA-0EAA-4E97-86C5-1D25E22FF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E811-CF3E-4163-AF46-59CCE77977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62B4-6C78-4A64-92B3-33A3F5B0B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B05A-1869-46EE-8C2C-E502664BE9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6A7F-ACF1-4842-8F3F-EBAAC5F40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2362320" y="1600200"/>
            <a:ext cx="731520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Approvisionnement et gestion des stoc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5051-7E52-4BA6-9F75-33F9BB779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 mettre en place un 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1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124080" y="2895480"/>
            <a:ext cx="31244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trôle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3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4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5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6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7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8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ssigner responsa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629400" y="21337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nalyse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des beso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1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les besoins minim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3429000" y="5257800"/>
            <a:ext cx="2514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évelopper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formulaires et regis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3"/>
          <p:cNvSpPr/>
          <p:nvPr/>
        </p:nvSpPr>
        <p:spPr>
          <a:xfrm>
            <a:off x="685800" y="449568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Établir systèm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ur recevoir et sto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4"/>
          <p:cNvSpPr/>
          <p:nvPr/>
        </p:nvSpPr>
        <p:spPr>
          <a:xfrm>
            <a:off x="685800" y="2057400"/>
            <a:ext cx="266688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intenir </a:t>
            </a:r>
            <a:br>
              <a:rPr sz="1400"/>
            </a:b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un système de gestion de stock dans toutes les zones de sto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5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6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7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8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9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0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6A50-D3B2-40E4-9864-60B37EFB63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r les bes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re une analyse des besoins en consommables et réactifs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stant toutes les analys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ant les consommables nécessaires pour chaque analy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ant l’information disponible pour estime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180C-FED2-4074-BE48-4132BAAA6B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nalyse des besoins : Information Requ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80880" y="1295280"/>
            <a:ext cx="8534520" cy="5045040"/>
            <a:chOff x="380880" y="1295280"/>
            <a:chExt cx="8534520" cy="5045040"/>
          </a:xfrm>
        </p:grpSpPr>
        <p:sp>
          <p:nvSpPr>
            <p:cNvPr id="222" name="AutoShape 4"/>
            <p:cNvSpPr/>
            <p:nvPr/>
          </p:nvSpPr>
          <p:spPr>
            <a:xfrm>
              <a:off x="380880" y="1295280"/>
              <a:ext cx="8534520" cy="504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98691"/>
            <p:cNvSpPr/>
            <p:nvPr/>
          </p:nvSpPr>
          <p:spPr>
            <a:xfrm flipH="1" flipV="1">
              <a:off x="2616120" y="3436560"/>
              <a:ext cx="1022400" cy="1904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98685"/>
            <p:cNvSpPr/>
            <p:nvPr/>
          </p:nvSpPr>
          <p:spPr>
            <a:xfrm>
              <a:off x="542880" y="2631960"/>
              <a:ext cx="213192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spac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stockage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98690"/>
            <p:cNvSpPr/>
            <p:nvPr/>
          </p:nvSpPr>
          <p:spPr>
            <a:xfrm flipH="1">
              <a:off x="3393720" y="4313160"/>
              <a:ext cx="630360" cy="5050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98672"/>
            <p:cNvSpPr/>
            <p:nvPr/>
          </p:nvSpPr>
          <p:spPr>
            <a:xfrm>
              <a:off x="1704960" y="4699080"/>
              <a:ext cx="2131920" cy="1231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emps pou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comman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98689"/>
            <p:cNvSpPr/>
            <p:nvPr/>
          </p:nvSpPr>
          <p:spPr>
            <a:xfrm>
              <a:off x="5272200" y="4313160"/>
              <a:ext cx="635040" cy="503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98670"/>
            <p:cNvSpPr/>
            <p:nvPr/>
          </p:nvSpPr>
          <p:spPr>
            <a:xfrm>
              <a:off x="5465880" y="4699080"/>
              <a:ext cx="2131920" cy="12319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Niveau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 priorité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98688"/>
            <p:cNvSpPr/>
            <p:nvPr/>
          </p:nvSpPr>
          <p:spPr>
            <a:xfrm flipV="1">
              <a:off x="5657760" y="3435120"/>
              <a:ext cx="1022400" cy="191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98667"/>
            <p:cNvSpPr/>
            <p:nvPr/>
          </p:nvSpPr>
          <p:spPr>
            <a:xfrm>
              <a:off x="6248520" y="2631960"/>
              <a:ext cx="25128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1900" spc="-1" strike="noStrike">
                  <a:solidFill>
                    <a:srgbClr val="000000"/>
                  </a:solidFill>
                  <a:latin typeface="Arial"/>
                </a:rPr>
                <a:t>Consommation/mois       </a:t>
              </a:r>
              <a:br>
                <a:rPr sz="1600"/>
              </a:b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98687"/>
            <p:cNvSpPr/>
            <p:nvPr/>
          </p:nvSpPr>
          <p:spPr>
            <a:xfrm flipV="1">
              <a:off x="4648320" y="2583000"/>
              <a:ext cx="0" cy="620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98665"/>
            <p:cNvSpPr/>
            <p:nvPr/>
          </p:nvSpPr>
          <p:spPr>
            <a:xfrm>
              <a:off x="3276720" y="1352520"/>
              <a:ext cx="243972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Unité de 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fr-FR" sz="2100" spc="-1" strike="noStrike">
                  <a:solidFill>
                    <a:srgbClr val="000000"/>
                  </a:solidFill>
                  <a:latin typeface="Arial"/>
                </a:rPr>
                <a:t>conditionnement      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98662"/>
            <p:cNvSpPr/>
            <p:nvPr/>
          </p:nvSpPr>
          <p:spPr>
            <a:xfrm>
              <a:off x="3584520" y="3203640"/>
              <a:ext cx="228132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br>
                <a:rPr sz="3000"/>
              </a:br>
              <a:r>
                <a:rPr b="1" lang="fr-FR" sz="3000" spc="-1" strike="noStrike">
                  <a:solidFill>
                    <a:srgbClr val="000000"/>
                  </a:solidFill>
                  <a:latin typeface="Arial"/>
                </a:rPr>
                <a:t>d'un article </a:t>
              </a:r>
              <a:br>
                <a:rPr sz="3000"/>
              </a:b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0D38-E4FB-4D3F-ADF8-60E259D3F3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533520"/>
            <a:ext cx="807732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a quantificatio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1905120"/>
            <a:ext cx="7848720" cy="25311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La quantification</a:t>
            </a:r>
            <a:r>
              <a:rPr b="0" lang="fr-FR" sz="3200" spc="-1" strike="noStrike">
                <a:solidFill>
                  <a:srgbClr val="ffcc00"/>
                </a:solidFill>
                <a:latin typeface="Verdana"/>
              </a:rPr>
              <a:t> est un processus pour calculer la quantité requise d’un article pour une période donné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5F39-9B77-406C-9EE7-3DBE292CDD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fr-FR" sz="3600" spc="-1" strike="noStrike">
                <a:solidFill>
                  <a:srgbClr val="e40202"/>
                </a:solidFill>
                <a:latin typeface="Verdana"/>
              </a:rPr>
              <a:t>quand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 partie de la planification ann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ise en œuvre d’un nouveau programme de san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préparation à une épidémie potentielle ou identifi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19D7-8782-4203-A2A0-A3D09EF7D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 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Comm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consom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éthode basée sur la morbid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442E-CD3C-416A-BB4E-F76215EAA0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antification: basée sur la consom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5943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asée sur la consommation ré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prendre en comp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réellement uti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gaspillés périmés ou abîm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 en rupture de stock plus de 15 jours sur l’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Untitled-43"/>
          <p:cNvPicPr/>
          <p:nvPr/>
        </p:nvPicPr>
        <p:blipFill>
          <a:blip r:embed="rId1"/>
          <a:stretch/>
        </p:blipFill>
        <p:spPr>
          <a:xfrm>
            <a:off x="5638680" y="2695680"/>
            <a:ext cx="35053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A458-116E-4AB6-8E42-5BE4AD0D47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Untitled-42"/>
          <p:cNvPicPr/>
          <p:nvPr/>
        </p:nvPicPr>
        <p:blipFill>
          <a:blip r:embed="rId1"/>
          <a:stretch/>
        </p:blipFill>
        <p:spPr>
          <a:xfrm>
            <a:off x="5105520" y="2395440"/>
            <a:ext cx="4038480" cy="25574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antification: basée sur la morbid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asée sur le nombre réel d’é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prendre en compt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aill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idence mala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actitude donnée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morbid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gnes de conduit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ndardisées de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9A2B-89C3-45E7-ABD9-77D34CF66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es registr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uméro de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ritères de refus ou d’acceptation des produ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d’utilisation/sortis du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peut être utile de garder les registres sur le lieu de stoc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storage_shelves"/>
          <p:cNvPicPr/>
          <p:nvPr/>
        </p:nvPicPr>
        <p:blipFill>
          <a:blip r:embed="rId1"/>
          <a:stretch/>
        </p:blipFill>
        <p:spPr>
          <a:xfrm>
            <a:off x="6647040" y="533520"/>
            <a:ext cx="2116080" cy="213336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gestion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 stock 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j0234700"/>
          <p:cNvPicPr/>
          <p:nvPr/>
        </p:nvPicPr>
        <p:blipFill>
          <a:blip r:embed="rId2"/>
          <a:stretch/>
        </p:blipFill>
        <p:spPr>
          <a:xfrm rot="2522400">
            <a:off x="7559280" y="35114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E708-4E2E-4BDD-92FE-8B81C6A86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clut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ré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Quant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ock mini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alance du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tre informati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étag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tin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;og_book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EA71-8FC2-4B00-B5F3-5AACFE6872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es étapes nécessaires pour mettre en œuvre un programme de contrôle et d’inventaire des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ommer les facteurs à considérer avant d’acheter des consomm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velopper un plan de contrôle du système de gestion des stocks et des inv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iscuter l’importance de la documentation concernant l’approvisionnement et la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F22C-D2C4-4371-ACA9-7FBF23257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Inspecter les commandes au moment de la livra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s cont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’intég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réception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ur chaque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la date de pére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anger les nouveaux articles derrière ceux en st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ou mettre à jour des regis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FIL15003"/>
          <p:cNvPicPr/>
          <p:nvPr/>
        </p:nvPicPr>
        <p:blipFill>
          <a:blip r:embed="rId1"/>
          <a:stretch/>
        </p:blipFill>
        <p:spPr>
          <a:xfrm>
            <a:off x="6781680" y="4495680"/>
            <a:ext cx="2076480" cy="1860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pe01495_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9645-1490-4E06-861B-66E1424E7A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p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rganisé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erm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Bien ventil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s de soleil dir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gères sol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rticles à portée de 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5000"/>
              </a:lnSpc>
              <a:spcBef>
                <a:spcPts val="601"/>
              </a:spcBef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écautions de sécurité dispon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281" name="AutoShape 8"/>
          <p:cNvSpPr/>
          <p:nvPr/>
        </p:nvSpPr>
        <p:spPr>
          <a:xfrm>
            <a:off x="6019920" y="3962520"/>
            <a:ext cx="213336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13" descr="j0434713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6C5F-7D7E-4567-B530-146C1D7FCF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Rayonn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17"/>
          <p:cNvSpPr/>
          <p:nvPr/>
        </p:nvSpPr>
        <p:spPr>
          <a:xfrm>
            <a:off x="685800" y="533412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ivre les précautions de sécur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21"/>
          <p:cNvSpPr/>
          <p:nvPr/>
        </p:nvSpPr>
        <p:spPr>
          <a:xfrm>
            <a:off x="4572000" y="4343400"/>
            <a:ext cx="2133720" cy="2057400"/>
          </a:xfrm>
          <a:prstGeom prst="pie">
            <a:avLst/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CE2D-C553-4E44-BE4B-F3C4B1490E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0010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la “perte” d’un produ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onomise du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ystématise l’espac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sto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uméroter chambres froid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frigérateur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congélateurs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t étiqueter les ray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8" descr="refrigerator_storage_cdc"/>
          <p:cNvPicPr/>
          <p:nvPr/>
        </p:nvPicPr>
        <p:blipFill>
          <a:blip r:embed="rId1"/>
          <a:srcRect l="0" t="0" r="0" b="25408"/>
          <a:stretch/>
        </p:blipFill>
        <p:spPr>
          <a:xfrm>
            <a:off x="4495680" y="4800600"/>
            <a:ext cx="3246480" cy="1701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rganisation des rayonn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7" descr="stock_room"/>
          <p:cNvPicPr/>
          <p:nvPr/>
        </p:nvPicPr>
        <p:blipFill>
          <a:blip r:embed="rId2"/>
          <a:stretch/>
        </p:blipFill>
        <p:spPr>
          <a:xfrm>
            <a:off x="5791320" y="1716120"/>
            <a:ext cx="320040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9CF75-149A-465C-9F3E-13BA27FDD7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tiliser des étiquettes avec des dates clairement visibl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’ouver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ate de pére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6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9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4820-F1B5-49A8-A92D-280B02B92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 continu de la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6" descr="Untitled-41"/>
          <p:cNvPicPr/>
          <p:nvPr/>
        </p:nvPicPr>
        <p:blipFill>
          <a:blip r:embed="rId1"/>
          <a:stretch/>
        </p:blipFill>
        <p:spPr>
          <a:xfrm>
            <a:off x="457200" y="1050840"/>
            <a:ext cx="8229600" cy="53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12C6-3146-4CA6-A8D9-748F53D510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Gestion informatisé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at exact du stock, classification des pro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dates de pére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tatistiques 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planifier les ordres d’ac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a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âches de gestion de stock facili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convéni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Ordinateur sur place nécess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equiert un personnel form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713040"/>
            <a:ext cx="26672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7513-9B7F-4BEA-A569-D7FDA72A36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boratoire bien géré possèdera un système d’approvisionnement et de gestion de st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système requière de planifier et contrôler: analyser les besoins, développer des formulaires et procédures, maintenir un inventaire. Le laboratoire devra maintenir un système de gestion de stock pour tous les réactifs et consommables utilisés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F266-4E2B-4869-AD58-F3BC3F2D0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gestion de stock :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gmente l’efficience et l’efficacité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ondra aux besoins des patients et du personnel de so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ure la disponibilité des produits quand nécess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082D-1D61-47C9-B01B-CDF96E351F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581280" cy="30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121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6094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F28B-200C-4A2D-8DAD-585ABF9DBF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n demande à votre laboratoire de se préparer en vue d’une épidémie de grippe potenti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sont les différents facteurs à étudier en planifiant ce processu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Quels problèmes seriez vous susceptibles de rencontrer lors de la planification et de la mise en oeuv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C3FC-7FC0-4F01-B131-26F2E41D27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43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3D9B-DC82-4BEF-B01C-BDE95BBD60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Bénéfices d’un programme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Verdana"/>
              </a:rPr>
              <a:t> de gestion d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9480" y="3352680"/>
            <a:ext cx="2438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Fournitures et réactifs toujours disponi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5943600" y="3200400"/>
            <a:ext cx="2819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oins de gaspill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Budget respec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j0424198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15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Qualité maint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153" name="Line 19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1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D831-F2CD-4BE9-8F3C-B3F86D081A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quilibre entre disponibilité du stock et dates de péremption des produits.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urée de vie des réactifs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var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Réactifs RIA : 3 à 8 se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Kits API : 4 à 1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tisérums : 1 à 4 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isques antibiotiques : 2 à 3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prêt à l’emploi : 1 à 2 m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Milieu de culture déshydraté : 3 à 5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FIL738"/>
          <p:cNvPicPr/>
          <p:nvPr/>
        </p:nvPicPr>
        <p:blipFill>
          <a:blip r:embed="rId1"/>
          <a:stretch/>
        </p:blipFill>
        <p:spPr>
          <a:xfrm>
            <a:off x="5410080" y="2514600"/>
            <a:ext cx="3429000" cy="28875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éfis de la gestion de st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5791320" y="3657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En 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7467480" y="335268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at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pére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1E0B-1B3E-41B2-BBFE-042D3281B3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princip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6" descr="Untitled-46"/>
          <p:cNvPicPr/>
          <p:nvPr/>
        </p:nvPicPr>
        <p:blipFill>
          <a:blip r:embed="rId1"/>
          <a:stretch/>
        </p:blipFill>
        <p:spPr>
          <a:xfrm>
            <a:off x="228600" y="1438200"/>
            <a:ext cx="868680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835F-7C8B-430A-AADD-D084DC1D56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ystème pour qualifier et sélectionner des vend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critères de sélection pour les consommables ou réactifs à ache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des informations auprès d’autres labor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aluer avant l’approvisionnement et après la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visionnement et gestion des stocks-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494B-8210-49C3-BFA3-253675EF8A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sidé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terminer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alité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de pa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457200" y="1143000"/>
            <a:ext cx="5409720" cy="2971080"/>
            <a:chOff x="457200" y="1143000"/>
            <a:chExt cx="5409720" cy="2971080"/>
          </a:xfrm>
        </p:grpSpPr>
        <p:sp>
          <p:nvSpPr>
            <p:cNvPr id="177" name="AutoShape 9"/>
            <p:cNvSpPr/>
            <p:nvPr/>
          </p:nvSpPr>
          <p:spPr>
            <a:xfrm>
              <a:off x="457200" y="1143000"/>
              <a:ext cx="5409720" cy="297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00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Négocier les pr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buClr>
                  <a:srgbClr val="ffcc00"/>
                </a:buClr>
                <a:buSzPct val="11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Revoir </a:t>
              </a:r>
              <a:br>
                <a:rPr sz="2000"/>
              </a:br>
              <a:r>
                <a:rPr b="1" lang="fr-FR" sz="2000" spc="-1" strike="noStrike">
                  <a:solidFill>
                    <a:srgbClr val="ffcc00"/>
                  </a:solidFill>
                  <a:latin typeface="Arial"/>
                </a:rPr>
                <a:t>contra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7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3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1"/>
          <p:cNvSpPr/>
          <p:nvPr/>
        </p:nvSpPr>
        <p:spPr>
          <a:xfrm>
            <a:off x="609480" y="1295280"/>
            <a:ext cx="51055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Arial"/>
              </a:rPr>
              <a:t>Comprendre les exigences du gouver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2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3" descr="j0412568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4" descr="j0311860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5" descr="j0185303"/>
          <p:cNvPicPr/>
          <p:nvPr/>
        </p:nvPicPr>
        <p:blipFill>
          <a:blip r:embed="rId3"/>
          <a:stretch/>
        </p:blipFill>
        <p:spPr>
          <a:xfrm>
            <a:off x="6705720" y="5029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6"/>
          <p:cNvSpPr/>
          <p:nvPr/>
        </p:nvSpPr>
        <p:spPr>
          <a:xfrm>
            <a:off x="5638680" y="373392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ssurer disponibilité et livra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12:07:52Z</dcterms:created>
  <dc:creator>sam5</dc:creator>
  <dc:description/>
  <dc:language>en-US</dc:language>
  <cp:lastModifiedBy>dolmazonv</cp:lastModifiedBy>
  <dcterms:modified xsi:type="dcterms:W3CDTF">2010-04-07T15:05:22Z</dcterms:modified>
  <cp:revision>130</cp:revision>
  <dc:subject/>
  <dc:title>Slide 1</dc:title>
</cp:coreProperties>
</file>